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png" ContentType="image/png"/>
  <Override PartName="/ppt/media/image10.png" ContentType="image/png"/>
  <Override PartName="/ppt/media/image11.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comments/comment25.xml" ContentType="application/vnd.openxmlformats-officedocument.presentationml.comments+xml"/>
  <Override PartName="/ppt/comments/comment50.xml" ContentType="application/vnd.openxmlformats-officedocument.presentationml.comments+xml"/>
  <Override PartName="/ppt/comments/comment4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Lst>
  <p:sldSz cx="9144000" cy="6858000"/>
  <p:notesSz cx="6796088" cy="9932988"/>
</p:presentation>
</file>

<file path=ppt/commentAuthors.xml><?xml version="1.0" encoding="utf-8"?>
<p:cmAuthorLst xmlns:p="http://schemas.openxmlformats.org/presentationml/2006/main">
  <p:cmAuthor id="0" name="rzaslans" initials="r"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presProps" Target="presProps.xml"/><Relationship Id="rId83" Type="http://schemas.openxmlformats.org/officeDocument/2006/relationships/commentAuthors" Target="commentAuthors.xml"/>
</Relationships>
</file>

<file path=ppt/comments/comment25.xml><?xml version="1.0" encoding="utf-8"?>
<p:cmLst xmlns:p="http://schemas.openxmlformats.org/presentationml/2006/main">
  <p:cm authorId="0" dt="2013-08-01T13:30:47.570000000" idx="1">
    <p:pos x="4502" y="928"/>
    <p:text>Maximal dose?</p:text>
  </p:cm>
</p:cmLst>
</file>

<file path=ppt/comments/comment44.xml><?xml version="1.0" encoding="utf-8"?>
<p:cmLst xmlns:p="http://schemas.openxmlformats.org/presentationml/2006/main">
  <p:cm authorId="0" dt="2013-08-01T14:08:26.307000000" idx="2">
    <p:pos x="251" y="3057"/>
    <p:text>
Maija - you wrote this a while ago - I think we don't have this as yet:
Aki promised to prepare more suitable clinical cases (one of leprosy, one of painful polyneuropathy, one of central pain, one of periphearal nerve trauma presenting better the developing world environment).</p:text>
  </p:cm>
</p:cmLst>
</file>

<file path=ppt/comments/comment50.xml><?xml version="1.0" encoding="utf-8"?>
<p:cmLst xmlns:p="http://schemas.openxmlformats.org/presentationml/2006/main">
  <p:cm authorId="0" dt="2013-08-01T13:51:44.202000000" idx="3">
    <p:pos x="1015" y="3178"/>
    <p:text>Is there no need for follow up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45" name="AutoShape 1"/>
          <p:cNvSpPr/>
          <p:nvPr/>
        </p:nvSpPr>
        <p:spPr>
          <a:xfrm>
            <a:off x="0" y="0"/>
            <a:ext cx="6796080" cy="9933120"/>
          </a:xfrm>
          <a:custGeom>
            <a:avLst/>
            <a:gdLst>
              <a:gd name="textAreaLeft" fmla="*/ 360 w 6796080"/>
              <a:gd name="textAreaRight" fmla="*/ 6795720 w 6796080"/>
              <a:gd name="textAreaTop" fmla="*/ 360 h 9933120"/>
              <a:gd name="textAreaBottom" fmla="*/ 9932760 h 9933120"/>
            </a:gdLst>
            <a:ahLst/>
            <a:rect l="textAreaLeft" t="textAreaTop" r="textAreaRight" b="textAreaBottom"/>
            <a:pathLst>
              <a:path w="21600" h="31570">
                <a:moveTo>
                  <a:pt x="5" y="0"/>
                </a:moveTo>
                <a:arcTo wR="5" hR="5" stAng="16200000" swAng="-5400000"/>
                <a:lnTo>
                  <a:pt x="0" y="31565"/>
                </a:lnTo>
                <a:arcTo wR="5" hR="5" stAng="10800000" swAng="-5400000"/>
                <a:lnTo>
                  <a:pt x="21595" y="3157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PlaceHolder 1"/>
          <p:cNvSpPr>
            <a:spLocks noGrp="1"/>
          </p:cNvSpPr>
          <p:nvPr>
            <p:ph type="sldImg"/>
          </p:nvPr>
        </p:nvSpPr>
        <p:spPr>
          <a:xfrm>
            <a:off x="915840" y="744120"/>
            <a:ext cx="4964400" cy="3722760"/>
          </a:xfrm>
          <a:prstGeom prst="rect">
            <a:avLst/>
          </a:prstGeom>
          <a:noFill/>
          <a:ln w="12600">
            <a:solidFill>
              <a:srgbClr val="000000"/>
            </a:solidFill>
            <a:miter/>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4400" cy="3722760"/>
          </a:xfrm>
          <a:prstGeom prst="rect">
            <a:avLst/>
          </a:prstGeom>
          <a:ln w="0">
            <a:noFill/>
          </a:ln>
        </p:spPr>
      </p:sp>
      <p:sp>
        <p:nvSpPr>
          <p:cNvPr id="99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cognition of neuropathic pain is based on careful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ests the hypothesis of the possible neuropathic pain based on the history (location and quality of pain).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Times New Roman"/>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Times New Roman"/>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8160"/>
            <a:ext cx="5438880" cy="4836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Recognition of neuropathic pain is based on careful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tests the hypothesis of the possible neuropathic pain based on the history (location and quality of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4400" cy="3722760"/>
          </a:xfrm>
          <a:prstGeom prst="rect">
            <a:avLst/>
          </a:prstGeom>
          <a:ln w="0">
            <a:noFill/>
          </a:ln>
        </p:spPr>
      </p:sp>
      <p:sp>
        <p:nvSpPr>
          <p:cNvPr id="100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with neuropathic pain have often comorbidities, e.g. mood changes, disturbed sleep or functional impairment (the list on the righ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Opioids should not be used in patients with previous or current alcohol or drug ab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8160"/>
            <a:ext cx="5438880" cy="4471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 layman does not necessarily know anything about neuropathic pain, and hence sufficient information of the character of the pain is important, e.g.,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the pain is a sequel of a previous nerve trauma, exacerbation of the pain is usually not a warning sign of further trauma</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tensity of the pain varies in most patients, typically being more intensive in the evening</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tress, depression and anxiety usually increase the experience of pain; hence relaxation, paying attention to nice and interesting thing is useful</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spite of pain regular physical activity is recommended to keep fit and to activate endogenous pain control system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hysiotherapy does not cure neuropathic pain, but guidance of ergonomy and suitable physical activity is important to patients with neuropathic pai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8160"/>
            <a:ext cx="5438880" cy="4852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a patient has only mild pain, he may not be interested in pharmacotherapy but is pleased with the diagnosis and explanation of the character of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atients with moderate or severe pain are usually motivated to try pharmacotherapy, which is currently the most important treatment of neuropathic pain.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clinical studies patients regard 50% pain relief as good and 30% pain relief as satisfactory.</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addition, treatment targets at functional improvement, better quality of life and relief of comorbiditi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ost cases the individual pharmacotherapy is found by searching the optimal balance between therapeutic effects and side effects.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s recommended to be used in developed countries with access to the widely accepted evidence-based treatments of neuropathic pai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15840" y="744480"/>
            <a:ext cx="4965840" cy="3724200"/>
          </a:xfrm>
          <a:prstGeom prst="rect">
            <a:avLst/>
          </a:prstGeom>
          <a:ln w="0">
            <a:noFill/>
          </a:ln>
        </p:spPr>
      </p:sp>
      <p:sp>
        <p:nvSpPr>
          <p:cNvPr id="100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Other medical problems and their medications are taken into account (see notes for slide 9) to avoid contraindications and interac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evious experience with neuropathic pain drugs is noted (no idea to repeat the same trial as previously don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915840" y="744480"/>
            <a:ext cx="4965840" cy="3724200"/>
          </a:xfrm>
          <a:prstGeom prst="rect">
            <a:avLst/>
          </a:prstGeom>
          <a:ln w="0">
            <a:noFill/>
          </a:ln>
        </p:spPr>
      </p:sp>
      <p:sp>
        <p:nvSpPr>
          <p:cNvPr id="100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dosing is explained and given also as written information to the patient (starting dose, escalation; with which steps and in which pa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15840" y="744480"/>
            <a:ext cx="4964400" cy="3722760"/>
          </a:xfrm>
          <a:prstGeom prst="rect">
            <a:avLst/>
          </a:prstGeom>
          <a:ln w="0">
            <a:noFill/>
          </a:ln>
        </p:spPr>
      </p:sp>
      <p:sp>
        <p:nvSpPr>
          <p:cNvPr id="101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uring the dose escalation both therapeutic effects and side effects are monito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915840" y="744480"/>
            <a:ext cx="4964400" cy="3722760"/>
          </a:xfrm>
          <a:prstGeom prst="rect">
            <a:avLst/>
          </a:prstGeom>
          <a:ln w="0">
            <a:noFill/>
          </a:ln>
        </p:spPr>
      </p:sp>
      <p:sp>
        <p:nvSpPr>
          <p:cNvPr id="101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The doses in drug combinations are usually a bit lower than those in monotherap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915840" y="744480"/>
            <a:ext cx="4965840" cy="3724200"/>
          </a:xfrm>
          <a:prstGeom prst="rect">
            <a:avLst/>
          </a:prstGeom>
          <a:ln w="0">
            <a:noFill/>
          </a:ln>
        </p:spPr>
      </p:sp>
      <p:sp>
        <p:nvSpPr>
          <p:cNvPr id="101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mechanisms of action of the drugs with evidence of efficacy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combination treatment is considered, drugs with different mechanism of action are combined, e.g. antidepressant + anticonvulsant or antidepressant + opioid.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 can be combined with systemic treatment in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bination of tramadol and antidepressants is not recommended due to risk of excessive serotoninergic effect of the combin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5840" y="744480"/>
            <a:ext cx="4965840" cy="3724200"/>
          </a:xfrm>
          <a:prstGeom prst="rect">
            <a:avLst/>
          </a:prstGeom>
          <a:ln w="0">
            <a:noFill/>
          </a:ln>
        </p:spPr>
      </p:sp>
      <p:sp>
        <p:nvSpPr>
          <p:cNvPr id="101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dosing of drugs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formation is viewed in detail in the following slid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arbamazepine and oxcarbazepine are recommended for primary trigeminal neuralgia.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s are recommended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5840" y="744480"/>
            <a:ext cx="4964400" cy="3722760"/>
          </a:xfrm>
          <a:prstGeom prst="rect">
            <a:avLst/>
          </a:prstGeom>
          <a:ln w="0">
            <a:noFill/>
          </a:ln>
        </p:spPr>
      </p:sp>
      <p:sp>
        <p:nvSpPr>
          <p:cNvPr id="1019"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GB" sz="1200" spc="-1" strike="noStrike">
                <a:solidFill>
                  <a:srgbClr val="000000"/>
                </a:solidFill>
                <a:latin typeface="Times New Roman"/>
              </a:rPr>
              <a:t>Capsaicin plaster is marked in red, as it is added afterward (the capsaicin studies were not published when the guidelines were writt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rimary trigeminal neuralgia, carbamazepine or oxcarbazepine are recommended. If they fail, neurosurgical consultation for invasive treatment is recommen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915840" y="744480"/>
            <a:ext cx="4964400" cy="3722760"/>
          </a:xfrm>
          <a:prstGeom prst="rect">
            <a:avLst/>
          </a:prstGeom>
          <a:ln w="0">
            <a:noFill/>
          </a:ln>
        </p:spPr>
      </p:sp>
      <p:sp>
        <p:nvSpPr>
          <p:cNvPr id="102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are worried about possible harmful effects of long-term medication. In this slide the typical questions are lis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the drug and the patient’s individual health state, honest information should be giv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5840" y="744480"/>
            <a:ext cx="4964400" cy="3722760"/>
          </a:xfrm>
          <a:prstGeom prst="rect">
            <a:avLst/>
          </a:prstGeom>
          <a:ln w="0">
            <a:noFill/>
          </a:ln>
        </p:spPr>
      </p:sp>
      <p:sp>
        <p:nvSpPr>
          <p:cNvPr id="102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revise the previous medication and taper off ineffective and unnecessary medication before commencing a new drug.</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5840" y="744480"/>
            <a:ext cx="4965840" cy="3724200"/>
          </a:xfrm>
          <a:prstGeom prst="rect">
            <a:avLst/>
          </a:prstGeom>
          <a:ln w="0">
            <a:noFill/>
          </a:ln>
        </p:spPr>
      </p:sp>
      <p:sp>
        <p:nvSpPr>
          <p:cNvPr id="102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second part of the presentation provides detailed information of evidence-bases drugs for neuropathic pa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first part of the presentation views general aspects of neuropathic pain as well as principles and strategies of its manag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4400" cy="3722760"/>
          </a:xfrm>
          <a:prstGeom prst="rect">
            <a:avLst/>
          </a:prstGeom>
          <a:ln w="0">
            <a:noFill/>
          </a:ln>
        </p:spPr>
      </p:sp>
      <p:sp>
        <p:nvSpPr>
          <p:cNvPr id="98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Times New Roman"/>
            </a:endParaRPr>
          </a:p>
        </p:txBody>
      </p:sp>
      <p:sp>
        <p:nvSpPr>
          <p:cNvPr id="982"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08DD88-1D60-476D-BF7A-D838254B9498}"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915840" y="744480"/>
            <a:ext cx="4965840" cy="3724200"/>
          </a:xfrm>
          <a:prstGeom prst="rect">
            <a:avLst/>
          </a:prstGeom>
          <a:ln w="0">
            <a:noFill/>
          </a:ln>
        </p:spPr>
      </p:sp>
      <p:sp>
        <p:nvSpPr>
          <p:cNvPr id="102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third part of the presentation includes some illustrative patient cases with various neuropathic pains and treatmen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15840" y="744480"/>
            <a:ext cx="4965840" cy="3724200"/>
          </a:xfrm>
          <a:prstGeom prst="rect">
            <a:avLst/>
          </a:prstGeom>
          <a:ln w="0">
            <a:noFill/>
          </a:ln>
        </p:spPr>
      </p:sp>
      <p:sp>
        <p:nvSpPr>
          <p:cNvPr id="102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Shabana, housewife in her late thirties. Painful symptoms have lasted for more than 2 years. She has been referred to a psychiatrist by a general practitioner who has assumed a psychogenic basis as the cause of Shabana’s pain (due to her infertilit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5840" y="744480"/>
            <a:ext cx="4965840" cy="3724200"/>
          </a:xfrm>
          <a:prstGeom prst="rect">
            <a:avLst/>
          </a:prstGeom>
          <a:ln w="0">
            <a:noFill/>
          </a:ln>
        </p:spPr>
      </p:sp>
      <p:sp>
        <p:nvSpPr>
          <p:cNvPr id="1031"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Due to lack of resources, brain imaging was not availabl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15840" y="744480"/>
            <a:ext cx="4965840" cy="3724200"/>
          </a:xfrm>
          <a:prstGeom prst="rect">
            <a:avLst/>
          </a:prstGeom>
          <a:ln w="0">
            <a:noFill/>
          </a:ln>
        </p:spPr>
      </p:sp>
      <p:sp>
        <p:nvSpPr>
          <p:cNvPr id="1033"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In a Japanese study of 32 patients, 44 % of patients with lateral medullary infarction developed CPS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5840" y="744480"/>
            <a:ext cx="4964400" cy="3722760"/>
          </a:xfrm>
          <a:prstGeom prst="rect">
            <a:avLst/>
          </a:prstGeom>
          <a:ln w="0">
            <a:noFill/>
          </a:ln>
        </p:spPr>
      </p:sp>
      <p:sp>
        <p:nvSpPr>
          <p:cNvPr id="98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C24C63-997D-4AE4-A6AF-CB07E80A7999}"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15840" y="744480"/>
            <a:ext cx="4965840" cy="3724200"/>
          </a:xfrm>
          <a:prstGeom prst="rect">
            <a:avLst/>
          </a:prstGeom>
          <a:ln w="0">
            <a:noFill/>
          </a:ln>
        </p:spPr>
      </p:sp>
      <p:sp>
        <p:nvSpPr>
          <p:cNvPr id="103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ea typeface="DejaVu Sans"/>
              </a:rPr>
              <a:t>The infrapatellar nerve arises from the saphenous nerve distal to the adductor canal. It then courses laterally to cross the patellar tendon in a transverse way. Cutaneous sensation of the anterior aspect of the knee and the anterior inferior knee capsule is supplied by the infrapatellar nerve. Infrapatellar nerve injury can be caused by surgical trauma. Sensory disturbances have been reported following arthroscopic and open knee surgery in the (medial) knee region. Also neuroma formation and reflex sympathetic dystrophy following infrapatellar nerve injury have been reported.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15840" y="744480"/>
            <a:ext cx="4965840" cy="3724200"/>
          </a:xfrm>
          <a:prstGeom prst="rect">
            <a:avLst/>
          </a:prstGeom>
          <a:ln w="0">
            <a:noFill/>
          </a:ln>
        </p:spPr>
      </p:sp>
      <p:sp>
        <p:nvSpPr>
          <p:cNvPr id="103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 conclude, medication for neuropathic pain should be individually tailored. The final medication is achieved by systematic testing of the available and suitable dru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ocess necessitates realistic goal setting (partial relief is regarded as good result), sufficient information, close follow-up, support and combination of non-pharmacological methods such as physiotherapeutic counselling of psychological support when nee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4400" cy="3722760"/>
          </a:xfrm>
          <a:prstGeom prst="rect">
            <a:avLst/>
          </a:prstGeom>
          <a:ln w="0">
            <a:noFill/>
          </a:ln>
        </p:spPr>
      </p:sp>
      <p:sp>
        <p:nvSpPr>
          <p:cNvPr id="98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8"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7E871-5A01-4D85-9F0C-22C3A2E24413}"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5840" y="744480"/>
            <a:ext cx="4964400" cy="3722760"/>
          </a:xfrm>
          <a:prstGeom prst="rect">
            <a:avLst/>
          </a:prstGeom>
          <a:ln w="0">
            <a:noFill/>
          </a:ln>
        </p:spPr>
      </p:sp>
      <p:sp>
        <p:nvSpPr>
          <p:cNvPr id="990"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slide illustrates the main mechanisms underlying the development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entral mechanisms include hyperexcitability, wind up, central sensitization, denervation supersensitivity and loss of inhibitory control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general, pharmacotherapy is based on these phenomena by modulating them with different mechanisms of action </a:t>
            </a:r>
            <a:r>
              <a:rPr b="0" lang="en-GB" sz="1200" spc="-1" strike="noStrike">
                <a:solidFill>
                  <a:srgbClr val="000000"/>
                </a:solidFill>
                <a:latin typeface="Times New Roman"/>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Times New Roman"/>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15840" y="744480"/>
            <a:ext cx="4964400" cy="3722760"/>
          </a:xfrm>
          <a:prstGeom prst="rect">
            <a:avLst/>
          </a:prstGeom>
          <a:ln w="0">
            <a:noFill/>
          </a:ln>
        </p:spPr>
      </p:sp>
      <p:sp>
        <p:nvSpPr>
          <p:cNvPr id="992"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15840" y="744480"/>
            <a:ext cx="4964400" cy="3722760"/>
          </a:xfrm>
          <a:prstGeom prst="rect">
            <a:avLst/>
          </a:prstGeom>
          <a:ln w="0">
            <a:noFill/>
          </a:ln>
        </p:spPr>
      </p:sp>
      <p:sp>
        <p:nvSpPr>
          <p:cNvPr id="99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adequate diagnostic procedure ending to the right diagnosis is the first step in the management of a patient with suspected neuropathic pai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neuropathic pain is suspected or recognised, the lesion or disease causing is needs to be identified and treated, when poss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he doctor cannot confirm the diagnosis or cannot achieve satisfactory treatment result, the patient should be referred to a specialist.</a:t>
            </a:r>
            <a:endParaRPr b="0" lang="en-US" sz="1200" spc="-1" strike="noStrike">
              <a:solidFill>
                <a:srgbClr val="000000"/>
              </a:solidFill>
              <a:latin typeface="Times New Roman"/>
            </a:endParaRPr>
          </a:p>
        </p:txBody>
      </p:sp>
      <p:sp>
        <p:nvSpPr>
          <p:cNvPr id="99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370C7-1FB4-4361-9D7F-5F8C44200223}"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D4595-2EAF-40C4-93CE-FEF481C2A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504F6-186B-4A90-A7B7-85E18AD31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EEDAC4-C1F4-4E5C-A56A-B1BFDDC3ED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087FCE-5350-4486-84A0-F2FBF3B735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2CBCF5-1229-451C-904D-E8B89654CE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E87CF9-EDDD-49CC-9238-B9C83EEDE5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F71211-3EDA-4EED-A040-3FF8FDAE7B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0AC1AA-B78E-4D2E-BBF1-938EA86C46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D84753-7C57-4FD2-9AEE-9376F7C4A3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6DA669-6DF3-4035-A0E7-464D3C20A9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0DF107-6BC5-4A31-813E-6FFBE3F233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A78E36-A44C-44E1-B203-9B36D4F722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11C8F-F8FE-4FBB-B6F4-D9504D381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48C22D-2AA2-4214-A9E9-54384A0BB0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2E4E58-2BD6-4ECC-BBD2-2FEEE4F03D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A0D7DB-B074-43BC-8B4B-E3E9953CFD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007959-B059-4457-B768-B425D2F14B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B72C9E-607B-4DD1-8019-88E0BE74E2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7AD3DB-4885-4A6A-AFF7-1F16725399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9E2B25-1361-43B9-9D3C-8A684036C3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CA32F6-965D-4CA7-A341-4E35CF6F86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BED577-049A-400A-A026-5484F1CC61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AC5D2A-8C4E-45FF-AFF6-1FB2F50048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2CFEE-87F2-4561-850F-47DFD201D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5B76B2-3047-4D83-8254-3FE852133F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3FEBB0-1D6F-4F3E-8648-1A75315EB1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63F67B-412C-42E3-85BF-48432592F6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7AB406-7721-4BEC-B548-A11CD94D3C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E85521-CF13-4D90-AA20-416B115BCB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6EE242-CCA2-481F-952B-CD6DB5D063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B4BC47-A15F-45D6-957A-072CD9694B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DC4AE6-0855-4B06-9FE7-C2A6152E55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FC76B8-71EA-4A5C-9C1B-B6A39EDBC8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EF43D5-939D-4AA7-94C4-76EDBA2BC1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079261-E704-4133-A88A-E8012B63E7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43AB7B-00EC-4C10-8138-2C9DB5CD33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ADD50F-BE35-4444-BDED-23D0C22796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D047F0-43DB-43D8-809C-A6A1D0B807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27E8CB-0BC2-4132-A16C-72858ACBEC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CDEE46-B5DA-4B48-B950-8150D863DB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6984FD-8E8B-4FEF-B0D1-AEBAC6D342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7ABCC2-B85E-4649-8BC9-5113C0D6CF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3B5A51-E430-4D89-9B5B-C4ACE28284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FBFAE2-F6AE-4A72-A332-AFF35E1E0C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9CC270-247C-4BC5-96E8-A395E1A77A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38751F-E19E-40E7-A01D-B2A58CD7C0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9B90BA-5903-4449-8F92-A1C1A009F7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F810C6-B335-4928-8F4B-D3DF1B2F91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6926D1-CEA1-49D9-9006-FB4B8CB81E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A24A4DD-400E-4094-A431-43A304F4D49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FFBB8C-AF33-4DCE-BF83-FB7305615F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7F6F7A-7A7E-413A-B4E1-0642B08DBA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61B64B-B4DB-4D02-A5DE-CC5B9395B0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BDA4B0-39E4-478E-83EB-5016467A7E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BCD733-5914-4E1D-AFB8-FF9DFD29CE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CE4206-9A85-4AF4-BA3A-EC1F84CAA8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6F3F14-1AA5-4A7D-8FE7-25B203F8C0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1C614B-9D33-4272-9D57-1D881978C0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C302A8-2060-40C4-8DB3-C58FC9430B6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96D3945-0F23-4590-91DE-41D33026166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9BC945A-B2F3-4439-84E7-02A2BD006BA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4EF547-77EF-45A1-946D-2A6797AC2E2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FEE7DF-7AD9-4777-8B6D-A6125E777A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1ACCAC-B991-4F6F-93DC-6087FF2018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8D9EF4D-B61F-45BA-AE88-E7446E9FD2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A73C90-7764-46FD-94F6-0D7C3131E7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9AAA35-C489-4F64-9B28-7E23168EF7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6B5449-A11F-4D53-9364-29E1DBD39F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58DD01-E7EF-453D-8871-809C2ED836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1FA69B-FF15-4EFB-B569-2E489D829E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0B358E-3AE6-4CD0-8675-45EB07704A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9D482BF-70D7-48BF-A66A-77A022154BF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2653DAE-9852-486E-B748-FE17754C40F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E0AECDD-239C-4C65-8ED2-4EC6EBF1B88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D42AF6-0BDB-42C9-BDC1-D785A0902E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73A0D20-E998-4A13-9091-CDB93FF8BB4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ACEF09E-244B-4021-B4AE-B5B555D549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00D46B-7153-4C6D-8C37-DE626DD66A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B7A596-BAA4-48AB-A317-CD896973C8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AB3531-39AB-4285-AC98-A80986E065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B2647A-EC48-4018-AA6A-CF41336986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B18486-3834-4372-8428-9E3AED27A6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D6E98F-A165-4B93-AD8B-5FBAB205BA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2184824-9BC3-4DF6-A87E-A9576C6315B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6FAC4C6-9D9C-4F86-B09A-3F271A8A197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EE695AB-0B31-40AC-BDBA-D919D558A24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D67DC95-91AF-441A-8A2F-4C8A33A6369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4C4D1C-0110-46EB-8D8E-17188911E91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F373160-6EDC-451D-BBF6-05E64EA2817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310F64F-63B4-42D2-A658-266AA2D0E11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A46F09C-1685-425D-AB69-2DF6F3A6AC7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F86256-323B-46FB-893A-8CB7528418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5F8B1-8C44-49D9-954F-32ED1CA26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526820-FBA5-414E-81AB-E620154839F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6C5E3ED-C234-4E0C-B933-CC366DB18C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1C77A2A-34FF-439F-A78B-B4A469E3E9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F391219-9BA0-46FD-9D2F-DF982FA2BC7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FC404C2-2C09-464D-B7B9-E323635EEE2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767A354-0960-4B41-AA71-70B3B98EBA7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07DE40D-7B22-46BB-AF85-E947B1ECC7B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A5AE477-5AB7-4C18-8260-A174CB483E7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F8C5597-CC9C-45CE-9B59-4398530BFBB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B214C71-9E4A-465C-8BA5-AA78089BE77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537E303-A5FB-4F85-B9E1-A111E95123A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6A24C3-ED36-4043-8A9F-F5FC635E48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9067246-B2B7-4AE7-8331-B23BE6E2E0C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A52315E-BDD8-4B5E-AA8B-F02A260510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6B7C32A-5634-4632-AE95-8C6A6689A2A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9BF5291-E303-4EC2-A20D-76020B18F48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17F8FE4-C529-4A38-A5F9-9610EB4CA29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46ADD-5310-45A9-BBCF-8D4EEF321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F4FD0-CE81-43D0-92B0-44F64A73B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23601-B9C0-426B-9C87-D6E7A794CC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401DF-706D-4140-AC2D-B41083D10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D0567-89AF-4061-ABF8-9D9FE1A9C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EBD6E-2536-405B-9569-44EFD1FBB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52BB5-4F1E-406B-98B6-2D72E25E9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51B09-5812-42B0-AB62-F8555DCF6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82B59-17B3-4486-827E-827BA70C6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3A6CD-856A-4169-91F2-BD1CDD41C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AFBAD-6E66-45CE-9154-471D29813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D8316-17A6-4724-A105-BF1E79A33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B08E8-8E69-4247-833B-E17B1F2C5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02BB80-B573-49F3-92B3-7832B9654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5829F-D4FA-4827-A6AB-DAC6028D1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FC2B11-6F04-496F-99BA-2D2572C17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258E86-E079-4C0B-A110-C73658B211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DD2C7B-DD30-4357-81D4-0094105172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336EA6-F132-4EE7-802B-D26BAB758C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3D8C9D-A1E2-4D5F-95AF-C56F06082E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785EFC-6178-4112-90E9-A40BE5508E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034A2D-3649-44E3-B93F-7D0D8BD9BA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B3C2A2-7124-4A8E-9350-E72DA84D7B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5232B8-606E-4837-A0B1-6873AA309E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416A0A-1822-4B73-BEB7-8659C14FCA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89CA6-2E79-49F7-B926-7580140AA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4C65E9-1CDB-42B3-BF9E-6A736DBB6C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F049C8-6CA9-44E5-A2FF-029A8EF5B3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9B178E-07A7-4BED-9EC8-E59928BF83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BD487E-0289-472A-BC5D-C3ACC08D9C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01FCE0-3669-434A-BDEC-5F71FDD2C0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441A26-0C8B-4924-BFA2-B5A8EFBF3C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E15B78-CE51-46A8-B960-680A49BA8D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78B91D-4FC4-4371-AE16-0B7B759799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D213F7-FA09-4C4F-8C2D-6080EB1C69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6B057E-BA77-483B-9478-BC616F3D3D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280D4-3031-46E1-9DA1-283427276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0AEDB0-3F74-4DE6-BAB7-0707A57607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296217-A758-4C79-BBA8-74DF93A92E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826F94-8769-4512-85B0-72AA281DCC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0138C6-6970-405B-B171-C905A49797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19E69F-5064-47E4-A9FB-FF3D4AF40B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825F95-E126-4D33-B63D-37B7420664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EAB1CF-9197-4778-922C-A618DD6D14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B1A02C-AE3F-49F5-9BF6-663E0D0440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43B084-B343-4055-9B2B-FCADBF83F7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9D8F07-3E59-493D-8EDB-E70B4D80CA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BCA51-87E4-4FC0-B15C-B8098F671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2B777B-0638-4BC2-BE8F-E769196CD1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50BCBB-D4A5-4E66-AE7A-4150139A36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0B3383-B0FB-42FA-9376-2BC304BB3A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4D35B5-4E8B-4F85-A382-B8CE2F1CBF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B52E20-8EAA-4327-9C19-BF71D1BB00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2C282E-9848-43C5-9364-D5536A674A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12D2F4-DB5D-456B-BD66-6C63B4A6AE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997565-B98D-4E53-9A56-16DF172CC3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FA89F3-E26C-4565-A678-01BC3863D6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F0867B-FB93-4B7F-A3F8-D1B5C9A02D11}"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873F30-93CB-4969-8674-EB12AFB8210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3701EA-F0E1-48D9-8005-851F6F09AD7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1CE342-E9D8-41F7-A977-455A4759BD3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6A1B09-064E-40D3-B251-822631C87BB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106982-4316-47DE-8EB7-3B4FE8FD588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B7C825-EE27-47D7-B564-50018DF3D2F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074DFE-A787-4620-9A21-827D8C11EB6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2FFD6A-BD16-420D-8948-337C46D5A98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65E5B6-550D-473D-B526-A6D33AE6109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646AEB-CC4A-4935-B244-DA2B4322FAD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331F5F-4CD5-4D5B-A8F3-CB23C3CB93F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F6CFE9-9EDC-496E-BDD0-0FDD813742D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4C571B-CBEC-4505-AC9B-78111F901CC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48DEE3-B740-4BDE-A1AD-749BED1AB49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comments" Target="../comments/comment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racteristics of neuropathic pain</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ypical for neuropathic pain: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pontaneous and provoked pain (often different from previous familiar pain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ther positive symptoms such as paresthesiae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signs (sensory deficit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epending on the site of the lesion, there may be other symptoms and clinical findings (e.g., motor paresis, muscle cramps, autonomic nervous symptom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efinitions of common features suggestive of neuropathic pain</a:t>
            </a:r>
            <a:endParaRPr b="0" lang="en-US" sz="3200" spc="-1" strike="noStrike">
              <a:solidFill>
                <a:srgbClr val="333333"/>
              </a:solidFill>
              <a:latin typeface="Open Sans Semibold"/>
            </a:endParaRPr>
          </a:p>
        </p:txBody>
      </p:sp>
      <p:graphicFrame>
        <p:nvGraphicFramePr>
          <p:cNvPr id="782" name=""/>
          <p:cNvGraphicFramePr/>
          <p:nvPr/>
        </p:nvGraphicFramePr>
        <p:xfrm>
          <a:off x="792000" y="1687680"/>
          <a:ext cx="7667640" cy="3902040"/>
        </p:xfrm>
        <a:graphic>
          <a:graphicData uri="http://schemas.openxmlformats.org/drawingml/2006/table">
            <a:tbl>
              <a:tblPr/>
              <a:tblGrid>
                <a:gridCol w="1675080"/>
                <a:gridCol w="5992560"/>
              </a:tblGrid>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Featu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Definition</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Parestha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abnormal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Dys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Unpleasant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e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frequent)</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n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ra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minished pain response to a normally painful stimulus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increased response to a stimulus which is normally painful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106524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ain due to a stimulus which does not normally activate the nociceptive system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 Mechanical (dynamic and / or static allodynia)</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 Thermal (warm and / or cold 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4"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5"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6" name="Picture 7" descr="Pertti"/>
          <p:cNvPicPr/>
          <p:nvPr/>
        </p:nvPicPr>
        <p:blipFill>
          <a:blip r:embed="rId1"/>
          <a:stretch/>
        </p:blipFill>
        <p:spPr>
          <a:xfrm>
            <a:off x="4678200" y="2714760"/>
            <a:ext cx="3422880" cy="2522520"/>
          </a:xfrm>
          <a:prstGeom prst="rect">
            <a:avLst/>
          </a:prstGeom>
          <a:ln w="0">
            <a:noFill/>
          </a:ln>
        </p:spPr>
      </p:pic>
      <p:pic>
        <p:nvPicPr>
          <p:cNvPr id="787"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9" name=""/>
          <p:cNvSpPr txBox="1"/>
          <p:nvPr/>
        </p:nvSpPr>
        <p:spPr>
          <a:xfrm>
            <a:off x="250920" y="1413000"/>
            <a:ext cx="811512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ocation of pain is neuroanatomically plausible.</a:t>
            </a:r>
            <a:br>
              <a:rPr sz="2200"/>
            </a:br>
            <a:r>
              <a:rPr b="0" lang="en-GB" sz="2200" spc="-1" strike="noStrike">
                <a:solidFill>
                  <a:srgbClr val="1a1a1a"/>
                </a:solidFill>
                <a:latin typeface="Open Sans"/>
              </a:rPr>
              <a:t>Pain drawing is useful!</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bnormal sensory function is found in clinical examinatio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isease causing the neuropathic pain </a:t>
            </a:r>
            <a:br>
              <a:rPr sz="2200"/>
            </a:br>
            <a:r>
              <a:rPr b="0" lang="en-GB" sz="2200" spc="-1" strike="noStrike">
                <a:solidFill>
                  <a:srgbClr val="1a1a1a"/>
                </a:solidFill>
                <a:latin typeface="Open Sans"/>
              </a:rPr>
              <a:t>can be identified b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eneral exa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urological examination </a:t>
            </a:r>
            <a:br>
              <a:rPr sz="2200"/>
            </a:br>
            <a:r>
              <a:rPr b="0" lang="en-GB" sz="2200" spc="-1" strike="noStrike">
                <a:solidFill>
                  <a:srgbClr val="1a1a1a"/>
                </a:solidFill>
                <a:latin typeface="Open Sans"/>
              </a:rPr>
              <a:t>(findings </a:t>
            </a:r>
            <a:r>
              <a:rPr b="0" lang="en-GB" sz="2200" spc="-1" strike="noStrike">
                <a:solidFill>
                  <a:srgbClr val="1a1a1a"/>
                </a:solidFill>
                <a:latin typeface="Symbol"/>
                <a:ea typeface="Symbol"/>
              </a:rPr>
              <a:t></a:t>
            </a:r>
            <a:r>
              <a:rPr b="0" lang="en-GB" sz="2200" spc="-1" strike="noStrike">
                <a:solidFill>
                  <a:srgbClr val="1a1a1a"/>
                </a:solidFill>
                <a:latin typeface="Open Sans"/>
              </a:rPr>
              <a:t>location of the le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ral to further examinations, if needed. </a:t>
            </a:r>
            <a:endParaRPr b="0" lang="en-US" sz="2200" spc="-1" strike="noStrike">
              <a:solidFill>
                <a:srgbClr val="1a1a1a"/>
              </a:solidFill>
              <a:latin typeface="Open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graphicFrame>
        <p:nvGraphicFramePr>
          <p:cNvPr id="791" name=""/>
          <p:cNvGraphicFramePr/>
          <p:nvPr/>
        </p:nvGraphicFramePr>
        <p:xfrm>
          <a:off x="755640" y="1844640"/>
          <a:ext cx="7920000" cy="2498760"/>
        </p:xfrm>
        <a:graphic>
          <a:graphicData uri="http://schemas.openxmlformats.org/drawingml/2006/table">
            <a:tbl>
              <a:tblPr/>
              <a:tblGrid>
                <a:gridCol w="1459080"/>
                <a:gridCol w="1411200"/>
                <a:gridCol w="5049720"/>
              </a:tblGrid>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Nerve fiber</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typ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Sens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Clinical testing instrument</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be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ouc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Fingers, piece of cotton wool or a soft brus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Vibr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uning fork (64 or 128 Hz)</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del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Pinprick,</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pai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sticks </a:t>
                      </a:r>
                      <a:br>
                        <a:rPr sz="1600"/>
                      </a:br>
                      <a:r>
                        <a:rPr b="0" lang="en-US" sz="1600" spc="-1" strike="noStrike">
                          <a:solidFill>
                            <a:srgbClr val="333333"/>
                          </a:solidFill>
                          <a:latin typeface="Open Sans"/>
                        </a:rPr>
                        <a:t>(e.g., wooden cocktail or sharp, plastic sticks)</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 object (2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C</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t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 object (4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792" name="Tekstikehys 9"/>
          <p:cNvSpPr/>
          <p:nvPr/>
        </p:nvSpPr>
        <p:spPr>
          <a:xfrm>
            <a:off x="684360" y="5181480"/>
            <a:ext cx="748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Testing of mechanical allodynia:</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Dynamic: brush</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Static: compression with finger or algomet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sp>
        <p:nvSpPr>
          <p:cNvPr id="79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performed on unclothed sk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directed according to the information from the history and pain dra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findings in the painful area are compared with findings in the contralateral area in unilateral pain and in other sites on the proximal-distal axis in bilateral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4">
                                            <p:txEl>
                                              <p:pRg st="2" end="2"/>
                                            </p:txEl>
                                          </p:spTgt>
                                        </p:tgtEl>
                                        <p:attrNameLst>
                                          <p:attrName>style.visibility</p:attrName>
                                        </p:attrNameLst>
                                      </p:cBhvr>
                                      <p:to>
                                        <p:strVal val="visible"/>
                                      </p:to>
                                    </p:set>
                                    <p:animEffect filter="dissolve" transition="in">
                                      <p:cBhvr additive="repl">
                                        <p:cTn id="7" dur="500"/>
                                        <p:tgtEl>
                                          <p:spTgt spid="794">
                                            <p:txEl>
                                              <p:pRg st="2" end="2"/>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xEl>
                                              <p:pRg st="3" end="3"/>
                                            </p:txEl>
                                          </p:spTgt>
                                        </p:tgtEl>
                                        <p:attrNameLst>
                                          <p:attrName>style.visibility</p:attrName>
                                        </p:attrNameLst>
                                      </p:cBhvr>
                                      <p:to>
                                        <p:strVal val="visible"/>
                                      </p:to>
                                    </p:set>
                                    <p:animEffect filter="dissolve" transition="in">
                                      <p:cBhvr additive="repl">
                                        <p:cTn id="12" dur="500"/>
                                        <p:tgtEl>
                                          <p:spTgt spid="7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 </a:t>
            </a:r>
            <a:br>
              <a:rPr sz="3200"/>
            </a:br>
            <a:r>
              <a:rPr b="0" lang="en-US" sz="3200" spc="-1" strike="noStrike">
                <a:solidFill>
                  <a:srgbClr val="333333"/>
                </a:solidFill>
                <a:latin typeface="Open Sans Semibold"/>
              </a:rPr>
              <a:t>motor testing</a:t>
            </a:r>
            <a:br>
              <a:rPr sz="3200"/>
            </a:br>
            <a:endParaRPr b="0" lang="en-US" sz="3200" spc="-1" strike="noStrike">
              <a:solidFill>
                <a:srgbClr val="333333"/>
              </a:solidFill>
              <a:latin typeface="Open Sans Semibold"/>
            </a:endParaRPr>
          </a:p>
        </p:txBody>
      </p:sp>
      <p:sp>
        <p:nvSpPr>
          <p:cNvPr id="796" name=""/>
          <p:cNvSpPr txBox="1"/>
          <p:nvPr/>
        </p:nvSpPr>
        <p:spPr>
          <a:xfrm>
            <a:off x="777960" y="1387440"/>
            <a:ext cx="7586640" cy="4937040"/>
          </a:xfrm>
          <a:prstGeom prst="rect">
            <a:avLst/>
          </a:prstGeom>
          <a:noFill/>
          <a:ln w="0">
            <a:noFill/>
          </a:ln>
        </p:spPr>
        <p:txBody>
          <a:bodyPr lIns="0" rIns="0" tIns="0" bIns="0" anchor="t">
            <a:normAutofit fontScale="90000"/>
          </a:bodyPr>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spection: muscular wasting, movement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pation of muscles (tension, tendernes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le strength</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0 = total paralysis</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 = flicker</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2 = movement with gravity eliminated</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 = movement only against gravity</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4 = movement can be overcome by resistance</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 = full powe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ne (spasticity, rigid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i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Functional impairment?</a:t>
            </a:r>
            <a:endParaRPr b="0" lang="en-US" sz="2200" spc="-1" strike="noStrike">
              <a:solidFill>
                <a:srgbClr val="ffffff"/>
              </a:solidFill>
              <a:latin typeface="Arial"/>
            </a:endParaRPr>
          </a:p>
        </p:txBody>
      </p:sp>
      <p:sp>
        <p:nvSpPr>
          <p:cNvPr id="799"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Elderly?</a:t>
            </a:r>
            <a:endParaRPr b="0" lang="en-US" sz="2200" spc="-1" strike="noStrike">
              <a:solidFill>
                <a:srgbClr val="ffffff"/>
              </a:solidFill>
              <a:latin typeface="Arial"/>
            </a:endParaRPr>
          </a:p>
        </p:txBody>
      </p:sp>
      <p:sp>
        <p:nvSpPr>
          <p:cNvPr id="800"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333333"/>
                </a:solidFill>
                <a:latin typeface="Arial"/>
              </a:rPr>
              <a:t>Pain</a:t>
            </a:r>
            <a:endParaRPr b="0" lang="en-US" sz="2200" spc="-1" strike="noStrike">
              <a:solidFill>
                <a:srgbClr val="ffffff"/>
              </a:solidFill>
              <a:latin typeface="Arial"/>
            </a:endParaRPr>
          </a:p>
        </p:txBody>
      </p:sp>
      <p:sp>
        <p:nvSpPr>
          <p:cNvPr id="802"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03"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Sleep disturbance?</a:t>
            </a:r>
            <a:endParaRPr b="0" lang="en-US" sz="2200" spc="-1" strike="noStrike">
              <a:solidFill>
                <a:srgbClr val="ffffff"/>
              </a:solidFill>
              <a:latin typeface="Arial"/>
            </a:endParaRPr>
          </a:p>
        </p:txBody>
      </p:sp>
      <p:sp>
        <p:nvSpPr>
          <p:cNvPr id="805"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Concomitant diseases? </a:t>
            </a:r>
            <a:br>
              <a:rPr sz="2200"/>
            </a:br>
            <a:r>
              <a:rPr b="0" lang="en-GB" sz="2200" spc="-1" strike="noStrike">
                <a:solidFill>
                  <a:srgbClr val="333333"/>
                </a:solidFill>
                <a:latin typeface="Arial"/>
              </a:rPr>
              <a:t>Multiple drug use?</a:t>
            </a:r>
            <a:endParaRPr b="0" lang="en-US" sz="2200" spc="-1" strike="noStrike">
              <a:solidFill>
                <a:srgbClr val="ffffff"/>
              </a:solidFill>
              <a:latin typeface="Arial"/>
            </a:endParaRPr>
          </a:p>
        </p:txBody>
      </p:sp>
      <p:sp>
        <p:nvSpPr>
          <p:cNvPr id="807"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Disability?</a:t>
            </a:r>
            <a:endParaRPr b="0" lang="en-US" sz="2200" spc="-1" strike="noStrike">
              <a:solidFill>
                <a:srgbClr val="ffffff"/>
              </a:solidFill>
              <a:latin typeface="Arial"/>
            </a:endParaRPr>
          </a:p>
        </p:txBody>
      </p:sp>
      <p:sp>
        <p:nvSpPr>
          <p:cNvPr id="809"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Anxiety? Depression?</a:t>
            </a:r>
            <a:endParaRPr b="0" lang="en-US" sz="2200" spc="-1" strike="noStrike">
              <a:solidFill>
                <a:srgbClr val="ffffff"/>
              </a:solidFill>
              <a:latin typeface="Arial"/>
            </a:endParaRPr>
          </a:p>
        </p:txBody>
      </p:sp>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11"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Tekstiruutu 2"/>
          <p:cNvSpPr/>
          <p:nvPr/>
        </p:nvSpPr>
        <p:spPr>
          <a:xfrm>
            <a:off x="540000" y="1919160"/>
            <a:ext cx="308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Causative disease and </a:t>
            </a:r>
            <a:br>
              <a:rPr sz="2200"/>
            </a:br>
            <a:r>
              <a:rPr b="0" lang="en-US" sz="2200" spc="-1" strike="noStrike">
                <a:solidFill>
                  <a:srgbClr val="333333"/>
                </a:solidFill>
                <a:latin typeface="Arial"/>
              </a:rPr>
              <a:t>its treatment?</a:t>
            </a:r>
            <a:endParaRPr b="0" lang="en-US" sz="2200" spc="-1" strike="noStrike">
              <a:solidFill>
                <a:srgbClr val="ffffff"/>
              </a:solidFill>
              <a:latin typeface="Arial"/>
            </a:endParaRPr>
          </a:p>
        </p:txBody>
      </p:sp>
      <p:sp>
        <p:nvSpPr>
          <p:cNvPr id="813"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4"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case management</a:t>
            </a:r>
            <a:endParaRPr b="0" lang="en-US" sz="3200" spc="-1" strike="noStrike">
              <a:solidFill>
                <a:srgbClr val="333333"/>
              </a:solidFill>
              <a:latin typeface="Open Sans Semibold"/>
            </a:endParaRPr>
          </a:p>
        </p:txBody>
      </p:sp>
      <p:sp>
        <p:nvSpPr>
          <p:cNvPr id="816" name=""/>
          <p:cNvSpPr txBox="1"/>
          <p:nvPr/>
        </p:nvSpPr>
        <p:spPr>
          <a:xfrm>
            <a:off x="755640" y="1844280"/>
            <a:ext cx="7586640" cy="3986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1"/>
          <p:cNvSpPr/>
          <p:nvPr/>
        </p:nvSpPr>
        <p:spPr>
          <a:xfrm>
            <a:off x="3492360" y="1557360"/>
            <a:ext cx="8229600" cy="725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19" name=""/>
          <p:cNvSpPr txBox="1"/>
          <p:nvPr/>
        </p:nvSpPr>
        <p:spPr>
          <a:xfrm>
            <a:off x="684360" y="1197000"/>
            <a:ext cx="7632720" cy="54720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therapy is the most important treatment </a:t>
            </a:r>
            <a:br>
              <a:rPr sz="2200"/>
            </a:br>
            <a:r>
              <a:rPr b="0" lang="en-US" sz="2200" spc="-1" strike="noStrike">
                <a:solidFill>
                  <a:srgbClr val="1a1a1a"/>
                </a:solidFill>
                <a:latin typeface="Open Sans"/>
              </a:rPr>
              <a:t>for those with moderate or seve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rtial) pain relief (&gt;50%, &gt;30%)</a:t>
            </a:r>
            <a:endParaRPr b="0" lang="en-US" sz="2200" spc="-1" strike="noStrike">
              <a:solidFill>
                <a:srgbClr val="1a1a1a"/>
              </a:solidFill>
              <a:latin typeface="Open Sans"/>
            </a:endParaRPr>
          </a:p>
          <a:p>
            <a:pPr lvl="2" marL="1054440" indent="-28440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pain relief is exceptional; hence some </a:t>
            </a:r>
            <a:br>
              <a:rPr sz="2200"/>
            </a:br>
            <a:r>
              <a:rPr b="0" lang="en-US" sz="2200" spc="-1" strike="noStrike">
                <a:solidFill>
                  <a:srgbClr val="1a1a1a"/>
                </a:solidFill>
                <a:latin typeface="Open Sans"/>
              </a:rPr>
              <a:t>pain relief is a realistic goal, which needs to be </a:t>
            </a:r>
            <a:br>
              <a:rPr sz="2200"/>
            </a:br>
            <a:r>
              <a:rPr b="0" lang="en-US" sz="2200" spc="-1" strike="noStrike">
                <a:solidFill>
                  <a:srgbClr val="1a1a1a"/>
                </a:solidFill>
                <a:latin typeface="Open Sans"/>
              </a:rPr>
              <a:t>explained to the patient.</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 and better quality of life</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sleep and mood, relief of anxie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have some, moderate or intolerable </a:t>
            </a:r>
            <a:br>
              <a:rPr sz="2200"/>
            </a:br>
            <a:r>
              <a:rPr b="0" lang="en-US" sz="2200" spc="-1" strike="noStrike">
                <a:solidFill>
                  <a:srgbClr val="1a1a1a"/>
                </a:solidFill>
                <a:latin typeface="Open Sans"/>
              </a:rPr>
              <a:t>side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refractory patients</a:t>
            </a:r>
            <a:endParaRPr b="0" lang="en-US" sz="2200" spc="-1" strike="noStrike">
              <a:solidFill>
                <a:srgbClr val="1a1a1a"/>
              </a:solidFill>
              <a:latin typeface="Open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subTitle"/>
          </p:nvPr>
        </p:nvSpPr>
        <p:spPr>
          <a:xfrm>
            <a:off x="2339640" y="5013000"/>
            <a:ext cx="533700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9"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Low technology treatment methods</a:t>
            </a:r>
            <a:endParaRPr b="0" lang="en-US" sz="2800" spc="-1" strike="noStrike">
              <a:solidFill>
                <a:srgbClr val="1a1a1a"/>
              </a:solidFill>
              <a:latin typeface="Open Sans"/>
            </a:endParaRPr>
          </a:p>
        </p:txBody>
      </p:sp>
      <p:sp>
        <p:nvSpPr>
          <p:cNvPr id="750"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1" name="Rectangle 5"/>
          <p:cNvSpPr/>
          <p:nvPr/>
        </p:nvSpPr>
        <p:spPr>
          <a:xfrm>
            <a:off x="1476360" y="5734080"/>
            <a:ext cx="619452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1" name=""/>
          <p:cNvSpPr txBox="1"/>
          <p:nvPr/>
        </p:nvSpPr>
        <p:spPr>
          <a:xfrm>
            <a:off x="777960" y="2301840"/>
            <a:ext cx="782640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2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maximal tolerated dose</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p:txBody>
      </p:sp>
      <p:sp>
        <p:nvSpPr>
          <p:cNvPr id="82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7"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useless or harmful medications</a:t>
            </a:r>
            <a:endParaRPr b="0" lang="en-US" sz="2200" spc="-1" strike="noStrike">
              <a:solidFill>
                <a:srgbClr val="1a1a1a"/>
              </a:solidFill>
              <a:latin typeface="Open Sans"/>
            </a:endParaRPr>
          </a:p>
        </p:txBody>
      </p:sp>
      <p:sp>
        <p:nvSpPr>
          <p:cNvPr id="82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30" name=""/>
          <p:cNvSpPr txBox="1"/>
          <p:nvPr/>
        </p:nvSpPr>
        <p:spPr>
          <a:xfrm>
            <a:off x="777960" y="2301840"/>
            <a:ext cx="7610400" cy="41515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g. 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g. a systemic drug combined with a topical dru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33"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Regulation of voltage-dependent calcium channels in the central nervous system </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1a1a1a"/>
                          </a:solidFill>
                          <a:latin typeface="Open Sans"/>
                        </a:rPr>
                        <a:t>Topical capsaici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4" name="Tekstiruutu 4"/>
          <p:cNvSpPr/>
          <p:nvPr/>
        </p:nvSpPr>
        <p:spPr>
          <a:xfrm>
            <a:off x="611280" y="6021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Open Sans"/>
              </a:rPr>
              <a:t>In </a:t>
            </a:r>
            <a:r>
              <a:rPr b="0" i="1" lang="en-US" sz="1800" spc="-1" strike="noStrike">
                <a:solidFill>
                  <a:srgbClr val="333333"/>
                </a:solidFill>
                <a:latin typeface="Open Sans"/>
              </a:rPr>
              <a:t>combination treatment</a:t>
            </a:r>
            <a:r>
              <a:rPr b="0" lang="en-US" sz="1800" spc="-1" strike="noStrike">
                <a:solidFill>
                  <a:srgbClr val="333333"/>
                </a:solidFill>
                <a:latin typeface="Open Sans"/>
              </a:rPr>
              <a:t>  - drugs with different mechanisms of action can be given together.</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36"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Drug</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Starting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Target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0-2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150 mg (in 1-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25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0-12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18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4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600 mg/day (in 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12h every 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3 patches at the same 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Capsaicin patc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30-60 min every 3 mont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4 patches/sessio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Morphine</a:t>
                      </a:r>
                      <a:r>
                        <a:rPr b="0" lang="en-US"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6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7" name="Line 61"/>
          <p:cNvSpPr/>
          <p:nvPr/>
        </p:nvSpPr>
        <p:spPr>
          <a:xfrm flipV="1">
            <a:off x="5940360" y="1557000"/>
            <a:ext cx="792360" cy="358920"/>
          </a:xfrm>
          <a:prstGeom prst="line">
            <a:avLst/>
          </a:prstGeom>
          <a:ln w="381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Algorithm for treatment of neuropathic pain</a:t>
            </a:r>
            <a:endParaRPr b="0" lang="en-US" sz="2900" spc="-1" strike="noStrike">
              <a:solidFill>
                <a:srgbClr val="333333"/>
              </a:solidFill>
              <a:latin typeface="Open Sans Semibold"/>
            </a:endParaRPr>
          </a:p>
        </p:txBody>
      </p:sp>
      <p:sp>
        <p:nvSpPr>
          <p:cNvPr id="839"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Peripheral neuropathic pain</a:t>
            </a:r>
            <a:endParaRPr b="0" lang="en-US" sz="1600" spc="-1" strike="noStrike">
              <a:solidFill>
                <a:srgbClr val="ffffff"/>
              </a:solidFill>
              <a:latin typeface="Arial"/>
            </a:endParaRPr>
          </a:p>
        </p:txBody>
      </p:sp>
      <p:sp>
        <p:nvSpPr>
          <p:cNvPr id="840"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rigeminal neuralgia</a:t>
            </a:r>
            <a:endParaRPr b="0" lang="en-US" sz="1600" spc="-1" strike="noStrike">
              <a:solidFill>
                <a:srgbClr val="ffffff"/>
              </a:solidFill>
              <a:latin typeface="Arial"/>
            </a:endParaRPr>
          </a:p>
        </p:txBody>
      </p:sp>
      <p:sp>
        <p:nvSpPr>
          <p:cNvPr id="841"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neuropathic pain</a:t>
            </a:r>
            <a:endParaRPr b="0" lang="en-US" sz="1600" spc="-1" strike="noStrike">
              <a:solidFill>
                <a:srgbClr val="ffffff"/>
              </a:solidFill>
              <a:latin typeface="Arial"/>
            </a:endParaRPr>
          </a:p>
        </p:txBody>
      </p:sp>
      <p:sp>
        <p:nvSpPr>
          <p:cNvPr id="842"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Local allodynia</a:t>
            </a:r>
            <a:endParaRPr b="0" lang="en-US" sz="1600" spc="-1" strike="noStrike">
              <a:solidFill>
                <a:srgbClr val="ffffff"/>
              </a:solidFill>
              <a:latin typeface="Arial"/>
            </a:endParaRPr>
          </a:p>
        </p:txBody>
      </p:sp>
      <p:sp>
        <p:nvSpPr>
          <p:cNvPr id="843"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Topical</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lidocaine</a:t>
            </a:r>
            <a:endParaRPr b="0" lang="en-US" sz="1600" spc="-1" strike="noStrike">
              <a:solidFill>
                <a:srgbClr val="ffffff"/>
              </a:solidFill>
              <a:latin typeface="Arial"/>
            </a:endParaRPr>
          </a:p>
        </p:txBody>
      </p:sp>
      <p:sp>
        <p:nvSpPr>
          <p:cNvPr id="844"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Gabapentin /</a:t>
            </a:r>
            <a:br>
              <a:rPr sz="1600"/>
            </a:b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45"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CA</a:t>
            </a:r>
            <a:endParaRPr b="0" lang="en-US" sz="1600" spc="-1" strike="noStrike">
              <a:solidFill>
                <a:srgbClr val="ffffff"/>
              </a:solidFill>
              <a:latin typeface="Arial"/>
            </a:endParaRPr>
          </a:p>
        </p:txBody>
      </p:sp>
      <p:sp>
        <p:nvSpPr>
          <p:cNvPr id="846"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SNRI</a:t>
            </a:r>
            <a:endParaRPr b="0" lang="en-US" sz="1600" spc="-1" strike="noStrike">
              <a:solidFill>
                <a:srgbClr val="ffffff"/>
              </a:solidFill>
              <a:latin typeface="Arial"/>
            </a:endParaRPr>
          </a:p>
        </p:txBody>
      </p:sp>
      <p:sp>
        <p:nvSpPr>
          <p:cNvPr id="847"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Opioids?</a:t>
            </a:r>
            <a:endParaRPr b="0" lang="en-US" sz="1600" spc="-1" strike="noStrike">
              <a:solidFill>
                <a:srgbClr val="ffffff"/>
              </a:solidFill>
              <a:latin typeface="Arial"/>
            </a:endParaRPr>
          </a:p>
        </p:txBody>
      </p:sp>
      <p:sp>
        <p:nvSpPr>
          <p:cNvPr id="848"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rPr>
              <a:t>Carbamazepine or oxcarbazepine</a:t>
            </a:r>
            <a:endParaRPr b="0" lang="en-US" sz="1600" spc="-1" strike="noStrike">
              <a:solidFill>
                <a:srgbClr val="ffffff"/>
              </a:solidFill>
              <a:latin typeface="Arial"/>
            </a:endParaRPr>
          </a:p>
        </p:txBody>
      </p:sp>
      <p:sp>
        <p:nvSpPr>
          <p:cNvPr id="849"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Neuro-surgery</a:t>
            </a:r>
            <a:endParaRPr b="0" lang="en-US" sz="1600" spc="-1" strike="noStrike">
              <a:solidFill>
                <a:srgbClr val="ffffff"/>
              </a:solidFill>
              <a:latin typeface="Arial"/>
            </a:endParaRPr>
          </a:p>
        </p:txBody>
      </p:sp>
      <p:sp>
        <p:nvSpPr>
          <p:cNvPr id="850"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post-stroke pain</a:t>
            </a:r>
            <a:endParaRPr b="0" lang="en-US" sz="1600" spc="-1" strike="noStrike">
              <a:solidFill>
                <a:srgbClr val="ffffff"/>
              </a:solidFill>
              <a:latin typeface="Arial"/>
            </a:endParaRPr>
          </a:p>
        </p:txBody>
      </p:sp>
      <p:sp>
        <p:nvSpPr>
          <p:cNvPr id="851"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Amitriptyline</a:t>
            </a:r>
            <a:endParaRPr b="0" lang="en-US" sz="1600" spc="-1" strike="noStrike">
              <a:solidFill>
                <a:srgbClr val="ffffff"/>
              </a:solidFill>
              <a:latin typeface="Arial"/>
            </a:endParaRPr>
          </a:p>
        </p:txBody>
      </p:sp>
      <p:sp>
        <p:nvSpPr>
          <p:cNvPr id="852"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Spinal cord injury pain</a:t>
            </a:r>
            <a:endParaRPr b="0" lang="en-US" sz="1600" spc="-1" strike="noStrike">
              <a:solidFill>
                <a:srgbClr val="ffffff"/>
              </a:solidFill>
              <a:latin typeface="Arial"/>
            </a:endParaRPr>
          </a:p>
        </p:txBody>
      </p:sp>
      <p:sp>
        <p:nvSpPr>
          <p:cNvPr id="853"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54"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Multiple sclerosis pain</a:t>
            </a:r>
            <a:endParaRPr b="0" lang="en-US" sz="1600" spc="-1" strike="noStrike">
              <a:solidFill>
                <a:srgbClr val="ffffff"/>
              </a:solidFill>
              <a:latin typeface="Arial"/>
            </a:endParaRPr>
          </a:p>
        </p:txBody>
      </p:sp>
      <p:sp>
        <p:nvSpPr>
          <p:cNvPr id="855"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Cannabinoids)</a:t>
            </a:r>
            <a:endParaRPr b="0" lang="en-US" sz="1600" spc="-1" strike="noStrike">
              <a:solidFill>
                <a:srgbClr val="ffffff"/>
              </a:solidFill>
              <a:latin typeface="Arial"/>
            </a:endParaRPr>
          </a:p>
        </p:txBody>
      </p:sp>
      <p:sp>
        <p:nvSpPr>
          <p:cNvPr id="856"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7"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0"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1"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4"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5"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df006e"/>
                </a:solidFill>
                <a:latin typeface="Open Sans"/>
              </a:rPr>
              <a:t>Capsaicin plaster?</a:t>
            </a:r>
            <a:endParaRPr b="0" lang="en-US" sz="1600" spc="-1" strike="noStrike">
              <a:solidFill>
                <a:srgbClr val="ffffff"/>
              </a:solidFill>
              <a:latin typeface="Arial"/>
            </a:endParaRPr>
          </a:p>
        </p:txBody>
      </p:sp>
      <p:sp>
        <p:nvSpPr>
          <p:cNvPr id="876"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Abbreviation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SNRI = serotonin and noradreanalin reuptake inhibitor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TCA = tricyclic antidepressant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80" name=""/>
          <p:cNvSpPr txBox="1"/>
          <p:nvPr/>
        </p:nvSpPr>
        <p:spPr>
          <a:xfrm>
            <a:off x="777960" y="4005360"/>
            <a:ext cx="7586640" cy="2319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vise previous medication, if nee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 with low dose, titrate individually, follow up carefu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valuate effect on pain, comorbidities and cognitive performance</a:t>
            </a:r>
            <a:endParaRPr b="0" lang="en-US" sz="2200" spc="-1" strike="noStrike">
              <a:solidFill>
                <a:srgbClr val="1a1a1a"/>
              </a:solidFill>
              <a:latin typeface="Open Sans"/>
            </a:endParaRPr>
          </a:p>
        </p:txBody>
      </p:sp>
      <p:sp>
        <p:nvSpPr>
          <p:cNvPr id="881"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rPr>
              <a:t>PAIN</a:t>
            </a:r>
            <a:endParaRPr b="0" lang="en-US" sz="2000" spc="-1" strike="noStrike">
              <a:solidFill>
                <a:srgbClr val="ffffff"/>
              </a:solidFill>
              <a:latin typeface="Arial"/>
            </a:endParaRPr>
          </a:p>
        </p:txBody>
      </p:sp>
      <p:sp>
        <p:nvSpPr>
          <p:cNvPr id="882"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COGNITIVE</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PERFORMANCE</a:t>
            </a:r>
            <a:endParaRPr b="0" lang="en-US" sz="2000" spc="-1" strike="noStrike">
              <a:solidFill>
                <a:srgbClr val="ffffff"/>
              </a:solidFill>
              <a:latin typeface="Arial"/>
            </a:endParaRPr>
          </a:p>
        </p:txBody>
      </p:sp>
      <p:sp>
        <p:nvSpPr>
          <p:cNvPr id="883"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4"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Medication</a:t>
            </a:r>
            <a:endParaRPr b="0" lang="en-US" sz="1600" spc="-1" strike="noStrike">
              <a:solidFill>
                <a:srgbClr val="ffffff"/>
              </a:solidFill>
              <a:latin typeface="Arial"/>
            </a:endParaRPr>
          </a:p>
        </p:txBody>
      </p:sp>
      <p:sp>
        <p:nvSpPr>
          <p:cNvPr id="885"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isturbed sleep</a:t>
            </a:r>
            <a:endParaRPr b="0" lang="en-US" sz="1600" spc="-1" strike="noStrike">
              <a:solidFill>
                <a:srgbClr val="ffffff"/>
              </a:solidFill>
              <a:latin typeface="Arial"/>
            </a:endParaRPr>
          </a:p>
        </p:txBody>
      </p:sp>
      <p:sp>
        <p:nvSpPr>
          <p:cNvPr id="886"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7"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Anxiety and stress</a:t>
            </a:r>
            <a:endParaRPr b="0" lang="en-US" sz="1600" spc="-1" strike="noStrike">
              <a:solidFill>
                <a:srgbClr val="ffffff"/>
              </a:solidFill>
              <a:latin typeface="Arial"/>
            </a:endParaRPr>
          </a:p>
        </p:txBody>
      </p:sp>
      <p:sp>
        <p:nvSpPr>
          <p:cNvPr id="888"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epression</a:t>
            </a:r>
            <a:endParaRPr b="0" lang="en-US" sz="1600" spc="-1" strike="noStrike">
              <a:solidFill>
                <a:srgbClr val="ffffff"/>
              </a:solidFill>
              <a:latin typeface="Arial"/>
            </a:endParaRPr>
          </a:p>
        </p:txBody>
      </p:sp>
      <p:sp>
        <p:nvSpPr>
          <p:cNvPr id="889"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transition>
    <p:zoom dir="out"/>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880"/>
                                        </p:tgtEl>
                                        <p:attrNameLst>
                                          <p:attrName>style.visibility</p:attrName>
                                        </p:attrNameLst>
                                      </p:cBhvr>
                                      <p:to>
                                        <p:strVal val="visible"/>
                                      </p:to>
                                    </p:set>
                                    <p:animEffect filter="dissolve" transition="in">
                                      <p:cBhvr additive="repl">
                                        <p:cTn id="19"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547640" y="3429000"/>
            <a:ext cx="680112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s of managing</a:t>
            </a:r>
            <a:br>
              <a:rPr sz="3600"/>
            </a:br>
            <a:r>
              <a:rPr b="0" lang="en-GB" sz="3600" spc="-1" strike="noStrike">
                <a:solidFill>
                  <a:srgbClr val="1a1a1a"/>
                </a:solidFill>
                <a:latin typeface="Open Sans Light"/>
                <a:ea typeface="Open Sans Light"/>
              </a:rPr>
              <a:t>of neuropathic pain</a:t>
            </a:r>
            <a:endParaRPr b="0" lang="en-US" sz="3600" spc="-1" strike="noStrike">
              <a:solidFill>
                <a:srgbClr val="333333"/>
              </a:solidFill>
              <a:latin typeface="Open Sans Semibol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2"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9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98"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0"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2"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br>
              <a:rPr sz="3200"/>
            </a:b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a:t>
            </a:r>
            <a:br>
              <a:rPr sz="2200"/>
            </a:br>
            <a:r>
              <a:rPr b="0" lang="en-GB" sz="2200" spc="-1" strike="noStrike">
                <a:solidFill>
                  <a:srgbClr val="1a1a1a"/>
                </a:solidFill>
                <a:latin typeface="Open Sans"/>
              </a:rPr>
              <a:t>(600-1800 mg dai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acarb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x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i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br>
              <a:rPr sz="3200"/>
            </a:b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1: Afghan housewife</a:t>
            </a:r>
            <a:endParaRPr b="0" lang="en-US" sz="3200" spc="-1" strike="noStrike">
              <a:solidFill>
                <a:srgbClr val="333333"/>
              </a:solidFill>
              <a:latin typeface="Open Sans Semibold"/>
            </a:endParaRPr>
          </a:p>
        </p:txBody>
      </p:sp>
      <p:pic>
        <p:nvPicPr>
          <p:cNvPr id="922" name="Picture 5" descr=""/>
          <p:cNvPicPr/>
          <p:nvPr/>
        </p:nvPicPr>
        <p:blipFill>
          <a:blip r:embed="rId1"/>
          <a:stretch/>
        </p:blipFill>
        <p:spPr>
          <a:xfrm>
            <a:off x="2124000" y="1773360"/>
            <a:ext cx="5256360" cy="3305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4" name=""/>
          <p:cNvSpPr txBox="1"/>
          <p:nvPr/>
        </p:nvSpPr>
        <p:spPr>
          <a:xfrm>
            <a:off x="684360" y="2276280"/>
            <a:ext cx="7586640" cy="26650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tient comes to visit a psychiatric outpatient clinic, escorted by her husb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omplains of continuous burning and lancinating pain in her left arm and on the right side of the fa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s much more severe in the face than in the arm.</a:t>
            </a:r>
            <a:endParaRPr b="0" lang="en-US" sz="2200" spc="-1" strike="noStrike">
              <a:solidFill>
                <a:srgbClr val="1a1a1a"/>
              </a:solidFill>
              <a:latin typeface="Open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ess than 3 years earlier, patient had suffered an attack of severe vertigo and vomiting, slurred speech and clumsiness of left h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ost of her symptoms had subsided within a week but slight clumsiness of left hand persis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he had not consulted a doctor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n face and left arm had started gradually after about 2 months of this episod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History</a:t>
            </a:r>
            <a:endParaRPr b="0" lang="en-US" sz="2400" spc="-1" strike="noStrike">
              <a:solidFill>
                <a:srgbClr val="1a1a1a"/>
              </a:solidFill>
              <a:latin typeface="Open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drooping of right eyel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clumsiness, ataxia and dysmetria of righ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mal and symmetric muscle strength, </a:t>
            </a:r>
            <a:br>
              <a:rPr sz="2200"/>
            </a:br>
            <a:r>
              <a:rPr b="0" lang="fi-FI" sz="2200" spc="-1" strike="noStrike">
                <a:solidFill>
                  <a:srgbClr val="1a1a1a"/>
                </a:solidFill>
                <a:latin typeface="Open Sans"/>
              </a:rPr>
              <a:t>normal speec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oss of pinprick and temperature sensation on right cheek and diminished pinprick and temperature sensation in lef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ardiac auscultation: norm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2" name=""/>
          <p:cNvSpPr txBox="1"/>
          <p:nvPr/>
        </p:nvSpPr>
        <p:spPr>
          <a:xfrm>
            <a:off x="755640" y="206064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highly probable) post stroke pain </a:t>
            </a:r>
            <a:br>
              <a:rPr sz="2200"/>
            </a:br>
            <a:r>
              <a:rPr b="0" lang="fi-FI" sz="2200" spc="-1" strike="noStrike">
                <a:solidFill>
                  <a:srgbClr val="1a1a1a"/>
                </a:solidFill>
                <a:latin typeface="Open Sans"/>
              </a:rPr>
              <a:t>due to right lateral medullary infarction (Wallenberg syndrome); posterior inferior cerebellar artery occlus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pino- and trigeminothalamic tract are injured in Wallenberg syndrome (denervation sensitivit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may start in acute or chronic (months </a:t>
            </a:r>
            <a:br>
              <a:rPr sz="2200"/>
            </a:br>
            <a:r>
              <a:rPr b="0" lang="fi-FI" sz="2200" spc="-1" strike="noStrike">
                <a:solidFill>
                  <a:srgbClr val="1a1a1a"/>
                </a:solidFill>
                <a:latin typeface="Open Sans"/>
              </a:rPr>
              <a:t>after stroke) st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any patients have swallowing difficulties </a:t>
            </a:r>
            <a:br>
              <a:rPr sz="2200"/>
            </a:br>
            <a:r>
              <a:rPr b="0" lang="fi-FI" sz="2200" spc="-1" strike="noStrike">
                <a:solidFill>
                  <a:srgbClr val="1a1a1a"/>
                </a:solidFill>
                <a:latin typeface="Open Sans"/>
              </a:rPr>
              <a:t>in acute stage</a:t>
            </a:r>
            <a:endParaRPr b="0" lang="en-US" sz="2200" spc="-1" strike="noStrike">
              <a:solidFill>
                <a:srgbClr val="1a1a1a"/>
              </a:solidFill>
              <a:latin typeface="Open Sans"/>
            </a:endParaRPr>
          </a:p>
        </p:txBody>
      </p:sp>
      <p:sp>
        <p:nvSpPr>
          <p:cNvPr id="93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Lateral medullary syndrome</a:t>
            </a:r>
            <a:endParaRPr b="0" lang="en-US" sz="3200" spc="-1" strike="noStrike">
              <a:solidFill>
                <a:srgbClr val="333333"/>
              </a:solidFill>
              <a:latin typeface="Open Sans Semibold"/>
            </a:endParaRPr>
          </a:p>
        </p:txBody>
      </p:sp>
      <p:pic>
        <p:nvPicPr>
          <p:cNvPr id="935" name="Picture 3" descr=""/>
          <p:cNvPicPr/>
          <p:nvPr/>
        </p:nvPicPr>
        <p:blipFill>
          <a:blip r:embed="rId1"/>
          <a:stretch/>
        </p:blipFill>
        <p:spPr>
          <a:xfrm>
            <a:off x="1036800" y="2585880"/>
            <a:ext cx="3174840" cy="2540160"/>
          </a:xfrm>
          <a:prstGeom prst="rect">
            <a:avLst/>
          </a:prstGeom>
          <a:ln w="0">
            <a:noFill/>
          </a:ln>
        </p:spPr>
      </p:pic>
      <p:pic>
        <p:nvPicPr>
          <p:cNvPr id="936" name="Picture 2" descr=""/>
          <p:cNvPicPr/>
          <p:nvPr/>
        </p:nvPicPr>
        <p:blipFill>
          <a:blip r:embed="rId2"/>
          <a:stretch/>
        </p:blipFill>
        <p:spPr>
          <a:xfrm>
            <a:off x="4735440" y="1708200"/>
            <a:ext cx="3571920" cy="4295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6" name="Rectangle 3" descr=""/>
          <p:cNvPicPr/>
          <p:nvPr/>
        </p:nvPicPr>
        <p:blipFill>
          <a:blip r:embed="rId1"/>
          <a:stretch/>
        </p:blipFill>
        <p:spPr>
          <a:xfrm>
            <a:off x="774720" y="2298600"/>
            <a:ext cx="7594560" cy="4467240"/>
          </a:xfrm>
          <a:prstGeom prst="rect">
            <a:avLst/>
          </a:prstGeom>
          <a:ln w="0">
            <a:noFill/>
          </a:ln>
        </p:spPr>
      </p:pic>
      <p:sp>
        <p:nvSpPr>
          <p:cNvPr id="75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triptyline was started (initiation 10 mg/day and increase up to maximum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ater combined with carbamazepine (100 mg bid and increased up to 300 mg bid) (lancinating, electric shock like pain on the right side of the face).</a:t>
            </a:r>
            <a:endParaRPr b="0" lang="en-US" sz="2200" spc="-1" strike="noStrike">
              <a:solidFill>
                <a:srgbClr val="1a1a1a"/>
              </a:solidFill>
              <a:latin typeface="Open Sans"/>
            </a:endParaRPr>
          </a:p>
        </p:txBody>
      </p:sp>
      <p:sp>
        <p:nvSpPr>
          <p:cNvPr id="93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2: Maasai-hunter from Tanzania</a:t>
            </a:r>
            <a:endParaRPr b="0" lang="en-US" sz="3200" spc="-1" strike="noStrike">
              <a:solidFill>
                <a:srgbClr val="333333"/>
              </a:solidFill>
              <a:latin typeface="Open Sans Semibold"/>
            </a:endParaRPr>
          </a:p>
        </p:txBody>
      </p:sp>
      <p:pic>
        <p:nvPicPr>
          <p:cNvPr id="941" name="Picture 3" descr=""/>
          <p:cNvPicPr/>
          <p:nvPr/>
        </p:nvPicPr>
        <p:blipFill>
          <a:blip r:embed="rId1"/>
          <a:stretch/>
        </p:blipFill>
        <p:spPr>
          <a:xfrm>
            <a:off x="1760400" y="1403280"/>
            <a:ext cx="5619960" cy="4905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3" name=""/>
          <p:cNvSpPr txBox="1"/>
          <p:nvPr/>
        </p:nvSpPr>
        <p:spPr>
          <a:xfrm>
            <a:off x="777960" y="2301480"/>
            <a:ext cx="8115120" cy="2855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Male Maasai warrior, 18 year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Visits local doctor due to burning pain in his left kne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in gets stronger during knee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3 months ago he had tripped over a stone on a hunting trip and hit his left knee hard.</a:t>
            </a:r>
            <a:endParaRPr b="0" lang="en-US" sz="24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Knee X-ray did not reveal any fractures or bone abnormalities</a:t>
            </a:r>
            <a:endParaRPr b="0" lang="en-US" sz="2400" spc="-1" strike="noStrike">
              <a:solidFill>
                <a:srgbClr val="1a1a1a"/>
              </a:solidFill>
              <a:latin typeface="Open Sans"/>
            </a:endParaRPr>
          </a:p>
        </p:txBody>
      </p:sp>
      <p:sp>
        <p:nvSpPr>
          <p:cNvPr id="94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Imaging</a:t>
            </a:r>
            <a:endParaRPr b="0" lang="en-US" sz="24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remarkable hyperesthesia, hyperalgesia and dynamic allodynia at the anteromedial aspect of the left knee, sensory exam of right knee norm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tient was not able to kneel down properly (painfu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 impairment of tendon reflexes</a:t>
            </a:r>
            <a:endParaRPr b="0" lang="en-US" sz="2400" spc="-1" strike="noStrike">
              <a:solidFill>
                <a:srgbClr val="1a1a1a"/>
              </a:solidFill>
              <a:latin typeface="Open Sans"/>
            </a:endParaRPr>
          </a:p>
        </p:txBody>
      </p:sp>
      <p:sp>
        <p:nvSpPr>
          <p:cNvPr id="94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5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europathic pain due to lesion of the infrapatellar branch of the left saphenous nerve</a:t>
            </a:r>
            <a:endParaRPr b="0" lang="en-US" sz="2400" spc="-1" strike="noStrike">
              <a:solidFill>
                <a:srgbClr val="1a1a1a"/>
              </a:solidFill>
              <a:latin typeface="Open Sans"/>
            </a:endParaRPr>
          </a:p>
        </p:txBody>
      </p:sp>
      <p:sp>
        <p:nvSpPr>
          <p:cNvPr id="95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3" descr=""/>
          <p:cNvPicPr/>
          <p:nvPr/>
        </p:nvPicPr>
        <p:blipFill>
          <a:blip r:embed="rId1"/>
          <a:stretch/>
        </p:blipFill>
        <p:spPr>
          <a:xfrm>
            <a:off x="3924360" y="1523880"/>
            <a:ext cx="5143320" cy="3810240"/>
          </a:xfrm>
          <a:prstGeom prst="rect">
            <a:avLst/>
          </a:prstGeom>
          <a:ln w="0">
            <a:noFill/>
          </a:ln>
        </p:spPr>
      </p:pic>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nfrapatellar nerve injury</a:t>
            </a:r>
            <a:endParaRPr b="0" lang="en-US" sz="3200" spc="-1" strike="noStrike">
              <a:solidFill>
                <a:srgbClr val="333333"/>
              </a:solidFill>
              <a:latin typeface="Open Sans Semibold"/>
            </a:endParaRPr>
          </a:p>
        </p:txBody>
      </p:sp>
      <p:grpSp>
        <p:nvGrpSpPr>
          <p:cNvPr id="955" name="Group 5"/>
          <p:cNvGrpSpPr/>
          <p:nvPr/>
        </p:nvGrpSpPr>
        <p:grpSpPr>
          <a:xfrm>
            <a:off x="512640" y="1241280"/>
            <a:ext cx="3772080" cy="4375440"/>
            <a:chOff x="512640" y="1241280"/>
            <a:chExt cx="3772080" cy="4375440"/>
          </a:xfrm>
        </p:grpSpPr>
        <p:pic>
          <p:nvPicPr>
            <p:cNvPr id="956" name="Picture 2" descr=""/>
            <p:cNvPicPr/>
            <p:nvPr/>
          </p:nvPicPr>
          <p:blipFill>
            <a:blip r:embed="rId2"/>
            <a:stretch/>
          </p:blipFill>
          <p:spPr>
            <a:xfrm>
              <a:off x="683280" y="1241280"/>
              <a:ext cx="3601440" cy="4375440"/>
            </a:xfrm>
            <a:prstGeom prst="rect">
              <a:avLst/>
            </a:prstGeom>
            <a:ln w="0">
              <a:noFill/>
            </a:ln>
          </p:spPr>
        </p:pic>
        <p:sp>
          <p:nvSpPr>
            <p:cNvPr id="957" name="Text Box 5"/>
            <p:cNvSpPr/>
            <p:nvPr/>
          </p:nvSpPr>
          <p:spPr>
            <a:xfrm>
              <a:off x="971280" y="2035080"/>
              <a:ext cx="90468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Patella </a:t>
              </a:r>
              <a:endParaRPr b="0" lang="en-US" sz="1600" spc="-1" strike="noStrike">
                <a:solidFill>
                  <a:srgbClr val="ffffff"/>
                </a:solidFill>
                <a:latin typeface="Arial"/>
              </a:endParaRPr>
            </a:p>
          </p:txBody>
        </p:sp>
        <p:sp>
          <p:nvSpPr>
            <p:cNvPr id="958" name="Text Box 6"/>
            <p:cNvSpPr/>
            <p:nvPr/>
          </p:nvSpPr>
          <p:spPr>
            <a:xfrm>
              <a:off x="512640" y="2540880"/>
              <a:ext cx="14875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Infrapatellar nerve </a:t>
              </a:r>
              <a:endParaRPr b="0" lang="en-US" sz="1600" spc="-1" strike="noStrike">
                <a:solidFill>
                  <a:srgbClr val="ffffff"/>
                </a:solidFill>
                <a:latin typeface="Arial"/>
              </a:endParaRPr>
            </a:p>
          </p:txBody>
        </p:sp>
        <p:sp>
          <p:nvSpPr>
            <p:cNvPr id="959" name="Text Box 7"/>
            <p:cNvSpPr/>
            <p:nvPr/>
          </p:nvSpPr>
          <p:spPr>
            <a:xfrm>
              <a:off x="512640" y="3193920"/>
              <a:ext cx="13273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Tibial tuberosity</a:t>
              </a:r>
              <a:endParaRPr b="0" lang="en-US" sz="1600" spc="-1" strike="noStrike">
                <a:solidFill>
                  <a:srgbClr val="ffffff"/>
                </a:solidFill>
                <a:latin typeface="Arial"/>
              </a:endParaRPr>
            </a:p>
          </p:txBody>
        </p:sp>
        <p:sp>
          <p:nvSpPr>
            <p:cNvPr id="960" name="Text Box 8"/>
            <p:cNvSpPr/>
            <p:nvPr/>
          </p:nvSpPr>
          <p:spPr>
            <a:xfrm>
              <a:off x="75384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Lateral</a:t>
              </a:r>
              <a:endParaRPr b="0" lang="en-US" sz="1600" spc="-1" strike="noStrike">
                <a:solidFill>
                  <a:srgbClr val="ffffff"/>
                </a:solidFill>
                <a:latin typeface="Arial"/>
              </a:endParaRPr>
            </a:p>
          </p:txBody>
        </p:sp>
        <p:sp>
          <p:nvSpPr>
            <p:cNvPr id="961" name="Text Box 9"/>
            <p:cNvSpPr/>
            <p:nvPr/>
          </p:nvSpPr>
          <p:spPr>
            <a:xfrm>
              <a:off x="327528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Medial</a:t>
              </a:r>
              <a:endParaRPr b="0" lang="en-US" sz="1600" spc="-1" strike="noStrike">
                <a:solidFill>
                  <a:srgbClr val="ffffff"/>
                </a:solidFill>
                <a:latin typeface="Arial"/>
              </a:endParaRPr>
            </a:p>
          </p:txBody>
        </p:sp>
      </p:grpSp>
      <p:sp>
        <p:nvSpPr>
          <p:cNvPr id="962" name="Tekstiruutu 4"/>
          <p:cNvSpPr/>
          <p:nvPr/>
        </p:nvSpPr>
        <p:spPr>
          <a:xfrm>
            <a:off x="755640" y="6372360"/>
            <a:ext cx="756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Open Sans"/>
                <a:ea typeface="DejaVu Sans"/>
              </a:rPr>
              <a:t>Injury, Vol 43, Issue 6, 2012, Pages 779–783</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rtriptyline or amitriptyline 10 mg, increase gradually up to maximum tolerated do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combination with topical anesthetic gel </a:t>
            </a:r>
            <a:br>
              <a:rPr sz="2400"/>
            </a:br>
            <a:r>
              <a:rPr b="0" lang="fi-FI" sz="2400" spc="-1" strike="noStrike">
                <a:solidFill>
                  <a:srgbClr val="1a1a1a"/>
                </a:solidFill>
                <a:latin typeface="Open Sans"/>
              </a:rPr>
              <a:t>(Lidocaine 5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hysiotherapy and exerci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surgical evaluation if neuroma suspected</a:t>
            </a:r>
            <a:endParaRPr b="0" lang="en-US" sz="2400" spc="-1" strike="noStrike">
              <a:solidFill>
                <a:srgbClr val="1a1a1a"/>
              </a:solidFill>
              <a:latin typeface="Open Sans"/>
            </a:endParaRPr>
          </a:p>
        </p:txBody>
      </p:sp>
      <p:sp>
        <p:nvSpPr>
          <p:cNvPr id="9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ummary</a:t>
            </a:r>
            <a:br>
              <a:rPr sz="2900"/>
            </a:br>
            <a:endParaRPr b="0" lang="en-US" sz="29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 (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a:t>
            </a:r>
            <a:endParaRPr b="0" lang="en-US" sz="22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is talk was prepared originally by:</a:t>
            </a:r>
            <a:endParaRPr b="0" lang="en-US" sz="3200" spc="-1" strike="noStrike">
              <a:solidFill>
                <a:srgbClr val="333333"/>
              </a:solidFill>
              <a:latin typeface="Open Sans Semibold"/>
            </a:endParaRPr>
          </a:p>
        </p:txBody>
      </p:sp>
      <p:sp>
        <p:nvSpPr>
          <p:cNvPr id="969" name=""/>
          <p:cNvSpPr/>
          <p:nvPr/>
        </p:nvSpPr>
        <p:spPr>
          <a:xfrm>
            <a:off x="468360" y="1700280"/>
            <a:ext cx="8675640" cy="1800000"/>
          </a:xfrm>
          <a:prstGeom prst="rect">
            <a:avLst/>
          </a:prstGeom>
          <a:noFill/>
          <a:ln w="0">
            <a:noFill/>
          </a:ln>
        </p:spPr>
        <p:style>
          <a:lnRef idx="0"/>
          <a:fillRef idx="0"/>
          <a:effectRef idx="0"/>
          <a:fontRef idx="minor"/>
        </p:style>
        <p:txBody>
          <a:bodyPr lIns="0" rIns="0" tIns="0" bIns="0" anchor="t">
            <a:normAutofit fontScale="78000"/>
          </a:bodyPr>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   </a:t>
            </a: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a:t>
            </a:r>
            <a:r>
              <a:rPr b="0" lang="en-US" sz="32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Tampere, Fin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971"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972" name=""/>
          <p:cNvGraphicFramePr/>
          <p:nvPr/>
        </p:nvGraphicFramePr>
        <p:xfrm>
          <a:off x="685800" y="1447920"/>
          <a:ext cx="7696080" cy="5072040"/>
        </p:xfrm>
        <a:graphic>
          <a:graphicData uri="http://schemas.openxmlformats.org/drawingml/2006/table">
            <a:tbl>
              <a:tblPr/>
              <a:tblGrid>
                <a:gridCol w="4260960"/>
                <a:gridCol w="3435120"/>
              </a:tblGrid>
              <a:tr h="3952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533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5601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4" name="Picture 6" descr=""/>
          <p:cNvPicPr/>
          <p:nvPr/>
        </p:nvPicPr>
        <p:blipFill>
          <a:blip r:embed="rId1"/>
          <a:stretch/>
        </p:blipFill>
        <p:spPr>
          <a:xfrm>
            <a:off x="762120" y="3048120"/>
            <a:ext cx="7954920" cy="3325680"/>
          </a:xfrm>
          <a:prstGeom prst="rect">
            <a:avLst/>
          </a:prstGeom>
          <a:ln w="0">
            <a:noFill/>
          </a:ln>
        </p:spPr>
      </p:pic>
      <p:sp>
        <p:nvSpPr>
          <p:cNvPr id="975"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ial and error -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Etiology</a:t>
            </a:r>
            <a:endParaRPr b="0" lang="en-US" sz="3200" spc="-1" strike="noStrike">
              <a:solidFill>
                <a:srgbClr val="ffffff"/>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Mechanisms</a:t>
              </a:r>
              <a:endParaRPr b="0" lang="en-US" sz="3200" spc="-1" strike="noStrike">
                <a:solidFill>
                  <a:srgbClr val="ffffff"/>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Symptoms</a:t>
              </a:r>
              <a:endParaRPr b="0" lang="en-US" sz="3200" spc="-1" strike="noStrike">
                <a:solidFill>
                  <a:srgbClr val="ffffff"/>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2:59Z</dcterms:modified>
  <cp:revision>145</cp:revision>
  <dc:subject/>
  <dc:title>Dia 1</dc:title>
</cp:coreProperties>
</file>